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10EE-D2F6-4618-A712-2C5DF5F80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483C-B98A-4F90-B4AE-4A3028B7C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D1F5-F70D-4E97-907E-D6AA2E437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9A2F-FDEA-4AD7-9C38-EB20A2C65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C85F-E04D-49A4-A41B-013D00250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B00A-CA90-474A-A09E-08624584B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2C15-D575-4B40-B859-325F6FD0E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9C70-96DA-414B-8939-0B9A957FE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9EFB-A6AA-4411-A902-3CCEC7E9D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F8CB-D517-4D41-BA9F-C6F49025A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635-EA47-4ED4-801E-33628E6F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30E-252E-4E0A-8675-B341DA3D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D7B-612A-4858-8EA3-59046CDD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5B8-0E10-41F8-9A82-1361A5EA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ECF7-6B6F-4842-B4E2-594CCE91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BC18-25BE-43F7-980C-B91AA555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BB49-92CD-4EAA-9B32-0AC56F62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D151-F548-48E2-A612-C490F3D6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9F1B-31B3-49EE-9533-5EE84613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75EC-33AB-4883-AC1F-B655DEC6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A978-666D-47E6-B3BB-34CC876F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19F-F354-42F3-9CD8-5719F244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CD1C-26D4-464F-B7BF-A9487279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19A3-7E15-4754-BD0E-C55DD528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2B9E-8B8F-4588-B1FF-036C1322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C5B6-B794-49AC-A815-D3138068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8AA1-B299-4F1E-8775-F86076B9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5090B-F96A-4F19-A2DE-F55F1404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E160B-00AD-4028-86A3-CAC35A63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A2798-8D13-4D1C-A02C-275FB14A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3F7F-724A-4041-825A-3E7CA7D3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62CD-4F09-400A-A6D5-06AF3AFB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B2F5-4FD5-4837-A576-592F7BD2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B95E0-2D88-46DE-AA9F-D2EFB211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B6D9A-366F-4F98-9CF0-5A79A385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379C6-676C-4B3A-8676-0F3D4830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AFB88-3118-4BD7-8A1F-7188D2EA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572F2-D262-4744-B4BF-68DFEFF1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07ADF-8E5D-47FB-AC9A-4DC7946D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4AC93-3BAD-4571-AB09-D8C4AAC7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38329-5A08-4960-8DC9-E2D051EE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D5792-7663-4674-A08E-ADF45F05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CF537-2AE9-4108-8634-8E6ED687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079-38DA-4A2E-8E52-67F80B1C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23398-2FA8-44CC-A323-12F3C227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68757-E533-4828-89F3-37B533D4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F8EAD-A8EB-44EC-BC01-BDEA22ED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7682C-9FFA-45A3-8D28-7156E208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FFA0D-4E03-428D-9BF9-FE1BF716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EFE40-DA9A-456B-9226-91FFF1AD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E4534-8EB7-43F4-BD0E-0BDEF997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A8F59-9A5E-4D10-A37B-412927DE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C211B-CD03-4C14-ADD8-9C145975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60B64-82C2-43C5-ABB4-34D0AADB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996-3D15-4ECE-8343-DBA922C3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DF178-54E9-4F36-A91F-5AA39C44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05306-0104-4837-9555-D503A17B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3280D-4194-4507-A50B-83C864D5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98C13-5410-4953-AFD9-35002CFD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6341C-AA27-4093-8B95-7B8EA2F1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19FEE-085B-4F0D-8AFF-6FBD3A9A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A8ED6-87BB-4911-88F5-9F474A90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A35C5-1185-4C2C-ADF3-F6D66312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73735-96DF-4529-AE78-5EED5C3C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ACD73-86FB-4C5B-AF5D-7A058716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73A-1B3C-4B66-B7B4-7985DFFF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985BF-8451-4511-BB79-85A1B0DE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651-9500-47EA-A32B-709CC47C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0F4B-062C-4652-BE40-D20A4209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C19-5E2D-4595-9904-3DFCD97F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7CB0-F58E-4A7C-9E15-025511A7E86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BB9A-92E6-418A-8396-355B47B1918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EB02-592A-47DC-AC6A-735AD142E50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0479-BE18-424C-B203-29583358729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3D8E-114A-40FB-B9F6-790BB6E12ED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scweb.net/ar_esc" TargetMode="External"/><Relationship Id="rId2" Type="http://schemas.openxmlformats.org/officeDocument/2006/relationships/hyperlink" Target="http://ideas.aetn.org/" TargetMode="External"/><Relationship Id="rId3" Type="http://schemas.openxmlformats.org/officeDocument/2006/relationships/hyperlink" Target="mailto:arideastech@aetn.or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echnology 2010-2011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766f"/>
                </a:solidFill>
                <a:latin typeface="Verdana"/>
              </a:rPr>
              <a:t>Melinda Oyler, Technology Coordina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766f"/>
                </a:solidFill>
                <a:latin typeface="Verdana"/>
              </a:rPr>
              <a:t>England School Distri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ain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y Tuesday –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uesday of each mon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tember 7, Web Page Cre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tober – May, TB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CWeb – </a:t>
            </a: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escweb.net/ar_es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AS – </a:t>
            </a: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ideas.aetn.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ail 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arideastech@aetn.or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give email, First Name, Last Name, Last 4 of SS, DO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Wikispace – “What I Know Is”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address – http://england-school-district.wikispaces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docu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name – ESD2, Password – Lions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Maintenan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y – Contact M. Oyler for any technology maintenance by email or phone (501) 285-5075 or (501) 842-2041, ext. 212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ecurit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et Use Policy and Warning Ban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reen sa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reless passw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wo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" descr="C:\Users\melinda.oyler.ENGLAND\AppData\Local\Microsoft\Windows\Temporary Internet Files\Content.IE5\OVGS2XBP\MC900365798[1].wmf"/>
          <p:cNvPicPr/>
          <p:nvPr/>
        </p:nvPicPr>
        <p:blipFill>
          <a:blip r:embed="rId1"/>
          <a:stretch/>
        </p:blipFill>
        <p:spPr>
          <a:xfrm>
            <a:off x="5638680" y="3505320"/>
            <a:ext cx="238284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assword.wmv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5399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aptop Car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dule check out from Mrs. Silva (EHS), Mrs. Dodd (EES, 4-6) or Mrs. Price (EES, K-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sure access point i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ge after 4 h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laptops or net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at and orderly in c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same netbooks or laptops to stu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 any abuses to technology depar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2" descr="C:\Users\melinda.oyler.ENGLAND\AppData\Local\Microsoft\Windows\Temporary Internet Files\Content.IE5\AOG7OSL7\MC900285950[1].wmf"/>
          <p:cNvPicPr/>
          <p:nvPr/>
        </p:nvPicPr>
        <p:blipFill>
          <a:blip r:embed="rId1"/>
          <a:stretch/>
        </p:blipFill>
        <p:spPr>
          <a:xfrm>
            <a:off x="5873760" y="29145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echnology Standar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Standards– http://www.england.k12.ar.us/view/technology-standards-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er and Administrator Standards - http://www.england.k12.ar.us/view/technology-standards-teachers-and-administ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esourc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2.0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trekker – http://www.nettrekker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ES – Username: 4302017, Password: artr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HS – Username: 4302018, Password: artr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– Register User (Use Building LEA as Registration Ke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and – http://my.triand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on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ctic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 Test Sc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14:01:37Z</dcterms:created>
  <dc:creator>melinda.oyler</dc:creator>
  <dc:description/>
  <dc:language>en-US</dc:language>
  <cp:lastModifiedBy>melinda.oyler</cp:lastModifiedBy>
  <dcterms:modified xsi:type="dcterms:W3CDTF">2010-08-13T16:39:43Z</dcterms:modified>
  <cp:revision>12</cp:revision>
  <dc:subject/>
  <dc:title>Technology 2010-2011</dc:title>
</cp:coreProperties>
</file>